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7294"/>
        <c:axId val="87439195"/>
      </c:barChart>
      <c:catAx>
        <c:axId val="2007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39195"/>
        <c:crosses val="autoZero"/>
        <c:auto val="1"/>
        <c:lblAlgn val="ctr"/>
        <c:lblOffset val="100"/>
        <c:noMultiLvlLbl val="0"/>
      </c:catAx>
      <c:valAx>
        <c:axId val="874391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7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0D09-95E2-4DC7-8471-018753BC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FE8-01D9-4810-B3E3-DA8963FD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B6A-78A9-4AA6-B179-6B9E0DA0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DDCA-4C04-44B1-89FC-BD0F6736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3F8-1A39-4FC7-940C-263A6B8D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5F6-0700-4D2A-822A-A81E5674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1FE-6101-4DA4-8240-D812F6FE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2B98-5FAF-43D1-A3B3-F5630C8B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806-F977-49C6-81C4-C79D5816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476-C58E-4989-8717-4EFAAF5E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D51-94D6-45F4-BF8D-7841335A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5B3-B879-44E3-9158-AB908B22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22A19-F097-4DC0-A0D3-79491797E3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